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252-46BE-4598-8F0B-D414ADDD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CC4-21A8-4343-9B09-2D00CD66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E41-560F-4023-9ED6-26CA7F17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980-0DE5-468E-9CEA-F71722D6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5BF-DA11-4D50-988F-242FF41F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4F2-7B5E-43FE-B137-A712E37F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592-7182-402D-86A4-9A2FEEEB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C37-2E48-4DCF-88AF-6B9A3097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A98-3924-4AED-89F9-1D043AB4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822-36C3-4313-8A1F-E0CA1613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091-D11A-4AE3-BB89-32D31D95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2B5-629F-42E8-8C53-E0E963DB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&lt;date/time&gt;</a:t>
            </a: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1 November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MRC Graduate Talks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C486-5EBF-4AEC-BDA8-528B84458560}" type="slidenum"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 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" name="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5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1 November 2010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1" idx="2"/>
            <a:endCxn id="122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2"/>
            <a:endCxn id="123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1" idx="2"/>
            <a:endCxn id="124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5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2"/>
            <a:endCxn id="120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9" idx="2"/>
            <a:endCxn id="121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2"/>
            <a:endCxn id="154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2"/>
            <a:endCxn id="155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5" idx="2"/>
            <a:endCxn id="156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5" idx="2"/>
            <a:endCxn id="157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4" idx="2"/>
            <a:endCxn id="210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4" idx="2"/>
            <a:endCxn id="211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1" idx="2"/>
            <a:endCxn id="212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1" idx="2"/>
            <a:endCxn id="213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5600" y="2436840"/>
            <a:ext cx="75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endCxn id="267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5" idx="3"/>
            <a:endCxn id="269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3"/>
            <a:endCxn id="271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9" idx="2"/>
            <a:endCxn id="275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9" idx="2"/>
            <a:endCxn id="276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2"/>
            <a:endCxn id="277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6" idx="2"/>
            <a:endCxn id="278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77" idx="2"/>
            <a:endCxn id="284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7" idx="2"/>
            <a:endCxn id="285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7" idx="2"/>
            <a:endCxn id="286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8" idx="2"/>
            <a:endCxn id="287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8" idx="2"/>
            <a:endCxn id="288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78" idx="2"/>
            <a:endCxn id="289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US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US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2" idx="2"/>
            <a:endCxn id="308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2" idx="2"/>
            <a:endCxn id="309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09" idx="2"/>
            <a:endCxn id="310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09" idx="2"/>
            <a:endCxn id="311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08" idx="2"/>
            <a:endCxn id="320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08" idx="2"/>
            <a:endCxn id="319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11" idx="2"/>
            <a:endCxn id="317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311" idx="2"/>
            <a:endCxn id="318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 TWO week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5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Administrator</cp:lastModifiedBy>
  <cp:lastPrinted>2004-11-17T16:02:36Z</cp:lastPrinted>
  <dcterms:modified xsi:type="dcterms:W3CDTF">2010-08-25T12:15:31Z</dcterms:modified>
  <cp:revision>57</cp:revision>
  <dc:subject/>
  <dc:title>No Slide Title</dc:title>
</cp:coreProperties>
</file>